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CF93-C26B-46CD-B24B-56E0A2D93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4197-FB28-424C-801B-5415C313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0CCF-153C-4287-9ED2-E85D5D165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F637-8845-4577-A05A-A1F24532B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EFFB-27E8-4564-838B-351AE87B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8704-8978-4085-AC86-2B43AA71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8333-8E86-4AAD-9D2F-909D9F57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4B2D-D981-4E19-8F3A-402646AF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CABC-1608-4192-A488-077ECAB8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57EE-97C2-4927-B858-E693FF2D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6625-B116-42FE-9343-629DF3FC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89F1-9F46-431C-B881-0082EBC5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08A4-0757-419F-89F6-3DB98E525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oston.com/bigpicture/2009/03/mexicos_drug_war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ctures from Washington Post webs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15:30:12Z</dcterms:created>
  <dc:creator>ws12051</dc:creator>
  <dc:description/>
  <dc:language>en-US</dc:language>
  <cp:lastModifiedBy>ws12051</cp:lastModifiedBy>
  <dcterms:modified xsi:type="dcterms:W3CDTF">2010-05-20T15:40:51Z</dcterms:modified>
  <cp:revision>2</cp:revision>
  <dc:subject/>
  <dc:title>The Big Picture</dc:title>
</cp:coreProperties>
</file>